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jpeg" ContentType="image/jpeg"/>
  <Override PartName="/ppt/media/image23.jpeg" ContentType="image/jpeg"/>
  <Override PartName="/ppt/media/image12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22.jpeg" ContentType="image/jpeg"/>
  <Override PartName="/ppt/media/image9.png" ContentType="image/png"/>
  <Override PartName="/ppt/media/image39.png" ContentType="image/png"/>
  <Override PartName="/ppt/media/image38.png" ContentType="image/png"/>
  <Override PartName="/ppt/media/image8.png" ContentType="image/png"/>
  <Override PartName="/ppt/media/image7.png" ContentType="image/png"/>
  <Override PartName="/ppt/media/image37.png" ContentType="image/png"/>
  <Override PartName="/ppt/media/image27.jpeg" ContentType="image/jpeg"/>
  <Override PartName="/ppt/media/image10.png" ContentType="image/png"/>
  <Override PartName="/ppt/media/image30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14.png" ContentType="image/png"/>
  <Override PartName="/ppt/media/image15.jpeg" ContentType="image/jpeg"/>
  <Override PartName="/ppt/media/image16.jpeg" ContentType="image/jpeg"/>
  <Override PartName="/ppt/media/image1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</p:sldIdLst>
  <p:sldSz cx="9144000" cy="6858000"/>
  <p:notesSz cx="6858000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2600" y="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992160" y="731520"/>
            <a:ext cx="4872240" cy="3655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260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3B9E4-F674-4751-8140-2D3A218BC5E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992160" y="731880"/>
            <a:ext cx="4872240" cy="36558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630320"/>
            <a:ext cx="54849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3" name="슬라이드 번호 개체 틀 3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663B3-CE71-4CD0-9820-171ABE5EE151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7FE88-B6F4-48A8-A6B0-05F68A274CA1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5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DFD89-2C2C-44FB-9595-0B223A3E0E90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8F410-DBDE-4525-832A-CAFFE4C3BBFC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1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B0AED-E427-4AC6-BB51-8FA56BEA0BA4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4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4C437-C839-44DE-A308-DEA1D7AF018D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7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2960" y="9261360"/>
            <a:ext cx="29718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54DC7-64E6-4EDE-B130-6CD3B8537DEB}" type="slidenum">
              <a:rPr b="0" lang="en-US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0" name="Text Box 1"/>
          <p:cNvSpPr/>
          <p:nvPr/>
        </p:nvSpPr>
        <p:spPr>
          <a:xfrm>
            <a:off x="1003320" y="741240"/>
            <a:ext cx="4848120" cy="365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ED95-08E4-46BD-835A-A6A85D202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EF90-87AB-4246-9E17-9532A97A3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0F4F-4C2E-4857-9287-E1C62BB01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595E-C94E-43FA-8D87-25CB005DA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E6652-1491-4523-8D3B-13AD183F4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74CE9-A399-490C-8163-D8F050F44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6D1AC-1376-4213-A901-49B9232D3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922BD-4339-4A29-833E-158ADCE28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E426E-DA75-41C0-8E52-9E5AC0AAD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43DD7-880A-4ADA-8A71-095323114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ADE9A-11E5-4308-BE0E-6A2CA4FA7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BE5D-2E52-4EFB-A151-AD4BFCCAC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3A1D9-225B-48BC-9BB0-1FCEB7474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64E4D-4197-430C-A0AD-3D2CDC13D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DD483-9D80-4DA0-83CD-6078ACD53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8D594-4778-48F0-A686-21ED79A7A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0AB5E-58F8-4F27-A61F-29EF435FB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E3292-4938-46CF-8D6F-B5E7CBE0E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E9331-DB8B-4423-BFA7-E02179116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3CF82-D92F-4621-8AC3-732111A2A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26207-9C58-4719-BD77-4A993933E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A8D55A-2A46-4FE2-B06A-4C0CD9D19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1E2B-8AFA-4E7D-8D80-0B365B1D6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58D07-EFBC-4E0D-9C0D-7B7FC647B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51F06-93A8-47C6-A801-1CE2084F5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6E8A6-D112-47F3-BBA3-BEDEE2890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060B9-4864-4484-B300-DB3A83175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D0F38-D27E-4B0C-9107-6110C01EB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8000C8-2C95-44BB-A70F-211C1D281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C4C8DA-51DA-4E30-BB2E-939A4CD89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DA6CB-B0E4-40C2-B50D-20E82E5AC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913FFF-EB50-491F-A600-ADAA5FAD5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DCF13-196B-427C-A1AE-90A993739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74C2-0FC3-4762-9B66-F982CD2C2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231091-553C-45B9-A61E-EA95273AE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5E2D7-D686-4A9C-A224-601B66666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5E8B3C-DB85-4759-A9EE-3F84238AC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A1B2E5-FF80-4F40-8D77-1333E0765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ADB031-F365-4195-8B7C-3E73591A5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EAB171-676F-402F-A17F-21D0791C6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7C8F39-E97A-4290-86F8-A4BA5C4F5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A41E48-17CA-4295-88B8-5A35FA2E7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B13FDF-7C76-42B2-AB5B-33466B3C8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1EE570-4004-48B4-BF0D-F8C2E6E9A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B2C39-D9F9-40BF-8B01-10AE26440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3F10D4-197A-4869-8186-311E5A229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178FF0-0AB3-4365-BAAD-F30591224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BBB47B-9F56-4DB0-A113-4422A61DD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93FBD4-ED18-4BE4-BDBF-666F82633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CC351B-0FA2-47E7-807B-0AA753B80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99144A-F146-4FF2-B997-2DB023ECE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BDA0F6-581A-427A-8E7F-24BD3493A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DC2258-F84D-4CF5-A2F2-A52B4CA9F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D86074-7D33-40C1-9EE1-6CD546851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ECC964-8775-46A4-A28D-4FD848C75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E9E7-AD37-4CE5-9290-7E2741DCD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BD334B-A6E6-4DD6-A8FB-A1273426C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0560CF-6A70-4814-88C9-F0B94F923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BBB409-B680-4B83-BE76-056E70C45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B5281A-6458-4B19-90D8-A30D6EF60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DEDB77-08CA-4924-B18D-E0F7F0471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8A5F2D-F915-4EA3-8965-0236FF584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7F0F5D-7D4B-4F1E-A639-382B72581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4A099A-397E-4764-B742-5FEF6985E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11434C-C1B2-4452-B80B-A1D98DBE6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1F7117-AF3B-4941-8F2F-B96553B3A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B8AB-E85A-4842-8B92-DCF351A44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C5B8BA-9EA8-4C9A-9084-E2C9D2240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12D01F-AFA7-4A3D-BCCA-61CC7A330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5488C6-5D2C-4685-8F95-8B3220EFE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0D858A-0C66-4DC2-9179-30DDFB25B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E6878A-B6C4-4BB1-A4F6-3AC3B5D16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522F9A-A41C-47BD-B61A-37E068D8A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CB45DD-577B-479F-8735-BF3907C5E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DB6C7F-078F-454E-8D2B-9DC7FD148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28B4C2-9890-463B-91F7-4963A8F03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A74303-DCE9-4641-A383-6D4668E6B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60C4-46FB-44A4-B6E7-AE2032758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AE21EC-B988-4925-B97D-547527390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4EA786-5D6D-468B-B591-A7FDF1BFB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3DE4E9-0215-4E91-9D9E-4E119C661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CB178F-C561-4E17-A172-7738049F4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BCC5C6-95D1-4BC2-ABEF-3D0F9F1A6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C54C30-D5A2-49DB-AE21-6F718FA4F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1B9A83-C985-4081-9D1E-8D005B983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C7C7E6-8CD2-43A9-B7A2-11D6B357B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2D566A-FC30-43AA-A0DE-2F8D08942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E1C1C5-BF98-4AC2-AF1B-8F10F8B8B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8A10-4A3E-4574-93CE-170F049B2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D3562B-918F-4A99-880A-282EF7126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DD7156-27D5-446C-A8A6-72A84CADA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1524F9-849D-4F17-BD33-618B98B91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CDC0F5-64A3-4337-9937-A65BAF8F7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83EA88-ECF3-420C-A56D-5D9122AB7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0FFE97-C7EA-4CD8-A9A1-BD6D1E7CE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4A703B-89C5-4BB1-AD2C-FB2358A41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직각 삼각형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5" name="직선 연결선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F33CD-BC4E-4138-B149-64843D8A537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직각 삼각형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8" name="그룹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자유형 16"/>
            <p:cNvSpPr/>
            <p:nvPr/>
          </p:nvSpPr>
          <p:spPr>
            <a:xfrm>
              <a:off x="1693440" y="4952880"/>
              <a:ext cx="7444440" cy="48600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0" name="자유형 18"/>
            <p:cNvSpPr/>
            <p:nvPr/>
          </p:nvSpPr>
          <p:spPr>
            <a:xfrm>
              <a:off x="45360" y="5236200"/>
              <a:ext cx="9092880" cy="78660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1" name="자유형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자유형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  <p:pic>
          <p:nvPicPr>
            <p:cNvPr id="54" name="직선 연결선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CBCCD-A486-43E6-8968-7144C972800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98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01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갈매기형 수장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갈매기형 수장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0EFAC-67EF-45B9-AA2E-A3D540F1235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6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7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150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FE5EB-099A-453B-A221-168596BB48A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F68F2-589B-4EFD-A497-6ED215B6D1A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자유형 12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자유형 11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35" name="직각 삼각형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직각 삼각형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238" name="직선 연결선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4F3D5-AF69-4C91-9021-1C777EB25F5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11BC0-B03E-4052-BC54-A47F1759700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자유형 10"/>
          <p:cNvSpPr/>
          <p:nvPr/>
        </p:nvSpPr>
        <p:spPr>
          <a:xfrm>
            <a:off x="716040" y="5002200"/>
            <a:ext cx="3801960" cy="1442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2" name="자유형 15"/>
          <p:cNvSpPr/>
          <p:nvPr/>
        </p:nvSpPr>
        <p:spPr>
          <a:xfrm>
            <a:off x="-54000" y="5784840"/>
            <a:ext cx="3801960" cy="8380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323" name="직각 삼각형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직각 삼각형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326" name="직선 연결선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갈매기형 수장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8" name="갈매기형 수장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69F1F-9A95-4A73-A70C-26D67D8D7D4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Rectangle 2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137440" cy="184752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440" y="3886200"/>
            <a:ext cx="822636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64646"/>
                </a:solidFill>
                <a:latin typeface="Lucida Sans Unicode"/>
              </a:rPr>
              <a:t>                                                  </a:t>
            </a:r>
            <a:r>
              <a:rPr b="0" lang="en-US" sz="2200" spc="-1" strike="noStrike">
                <a:solidFill>
                  <a:srgbClr val="464646"/>
                </a:solidFill>
                <a:latin typeface="HY강B"/>
                <a:ea typeface="HY강B"/>
              </a:rPr>
              <a:t>5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 김보기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조원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강경구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하수은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                                                     </a:t>
            </a:r>
            <a:r>
              <a:rPr b="0" lang="ko-KR" sz="2200" spc="-1" strike="noStrike">
                <a:solidFill>
                  <a:srgbClr val="464646"/>
                </a:solidFill>
                <a:latin typeface="HY강B"/>
                <a:ea typeface="HY강B"/>
              </a:rPr>
              <a:t>신한별  </a:t>
            </a:r>
            <a:endParaRPr b="0" lang="en-US" sz="2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457200" y="1241280"/>
            <a:ext cx="8229600" cy="47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톨루엔 성분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포름알데히드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벤젠의 수소원자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를 메틸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基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 치환한 화합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색의 액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석탄을 건류하여 얻은 경유를 황산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으로 씻은 다음 정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精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여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 보호막 녹이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 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통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중추신경 장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혼수상태 등 유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0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 txBox="1"/>
          <p:nvPr/>
        </p:nvSpPr>
        <p:spPr>
          <a:xfrm>
            <a:off x="272880" y="1323720"/>
            <a:ext cx="8413920" cy="480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함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메탄올을 산화시켜 얻는 기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로자극적인  냄새 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환원성이 강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알레르기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촉성 피부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두드러기 등 일으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결막에 큰 자극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 txBox="1"/>
          <p:nvPr/>
        </p:nvSpPr>
        <p:spPr>
          <a:xfrm>
            <a:off x="457200" y="122868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접착부분이 화학성분으로 이루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짐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포름알데히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(Formaldehyde)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검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두덩 피부를 자극하여 염증이 생기거나  색소침착이 생겨 단단하게 만듬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장기간 사용할 경우 피부가 늘어지게 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려움증으로 눈이 빨갛게 충혈되는 현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발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4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고정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가발 망의 실리콘 테두리를 이용하여 두피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에 고정하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탈 부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의료용 양면 테이프를 이용하여 고정하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는 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혼합식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특수 제작된 패치를 이용하여 자신의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71680" indent="-5716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모발이나 두피에 부착하는 다기능 부착공법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6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8" name="Picture 5" descr="http://cfs12.blog.daum.net/original/16/blog/2008/02/19/12/11/47ba48c55d83c&amp;filename=DSC00419.JPG"/>
          <p:cNvPicPr/>
          <p:nvPr/>
        </p:nvPicPr>
        <p:blipFill>
          <a:blip r:embed="rId1"/>
          <a:stretch/>
        </p:blipFill>
        <p:spPr>
          <a:xfrm>
            <a:off x="4681440" y="1346040"/>
            <a:ext cx="3784680" cy="4534200"/>
          </a:xfrm>
          <a:prstGeom prst="rect">
            <a:avLst/>
          </a:prstGeom>
          <a:ln w="0">
            <a:noFill/>
          </a:ln>
        </p:spPr>
      </p:pic>
      <p:pic>
        <p:nvPicPr>
          <p:cNvPr id="409" name="제목 1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17" descr="5409209782"/>
          <p:cNvPicPr/>
          <p:nvPr/>
        </p:nvPicPr>
        <p:blipFill>
          <a:blip r:embed="rId3"/>
          <a:stretch/>
        </p:blipFill>
        <p:spPr>
          <a:xfrm>
            <a:off x="457200" y="1346040"/>
            <a:ext cx="422424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이 가늘고 좁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으로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잘라 눈썹 끝에만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 쌍꺼풀인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속눈썹길이 반보다 길게 잘        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라 눈앞머리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/3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띄우고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눈에 힘이 없고 라인이 분명 하지 않은 경우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  </a:t>
            </a:r>
            <a:r>
              <a:rPr b="0" lang="ko-KR" sz="2700" spc="-1" strike="noStrike">
                <a:solidFill>
                  <a:srgbClr val="000000"/>
                </a:solidFill>
                <a:latin typeface="HY강B"/>
                <a:ea typeface="HY강B"/>
              </a:rPr>
              <a:t>부분속눈썹을 전체적으로 붙임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2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Picture 7" descr="1111"/>
          <p:cNvPicPr/>
          <p:nvPr/>
        </p:nvPicPr>
        <p:blipFill>
          <a:blip r:embed="rId1"/>
          <a:stretch/>
        </p:blipFill>
        <p:spPr>
          <a:xfrm>
            <a:off x="457200" y="1855800"/>
            <a:ext cx="3695760" cy="352116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9" descr="이미지 썸네일"/>
          <p:cNvPicPr/>
          <p:nvPr/>
        </p:nvPicPr>
        <p:blipFill>
          <a:blip r:embed="rId2"/>
          <a:stretch/>
        </p:blipFill>
        <p:spPr>
          <a:xfrm>
            <a:off x="4152960" y="1855800"/>
            <a:ext cx="4295880" cy="3521160"/>
          </a:xfrm>
          <a:prstGeom prst="rect">
            <a:avLst/>
          </a:prstGeom>
          <a:ln w="0">
            <a:noFill/>
          </a:ln>
        </p:spPr>
      </p:pic>
      <p:pic>
        <p:nvPicPr>
          <p:cNvPr id="415" name="Rectangle 5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 txBox="1"/>
          <p:nvPr/>
        </p:nvSpPr>
        <p:spPr>
          <a:xfrm>
            <a:off x="457200" y="1599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17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19" name="Picture 3" descr="C:\Documents and Settings\user\바탕 화면\1.JPG"/>
          <p:cNvPicPr/>
          <p:nvPr/>
        </p:nvPicPr>
        <p:blipFill>
          <a:blip r:embed="rId2"/>
          <a:stretch/>
        </p:blipFill>
        <p:spPr>
          <a:xfrm>
            <a:off x="1986120" y="2219400"/>
            <a:ext cx="5171760" cy="16160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" descr="C:\Documents and Settings\user\바탕 화면\2.JPG"/>
          <p:cNvPicPr/>
          <p:nvPr/>
        </p:nvPicPr>
        <p:blipFill>
          <a:blip r:embed="rId3"/>
          <a:stretch/>
        </p:blipFill>
        <p:spPr>
          <a:xfrm>
            <a:off x="1986120" y="3835440"/>
            <a:ext cx="5171760" cy="16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" descr="C:\Documents and Settings\user\바탕 화면\3.JPG"/>
          <p:cNvPicPr/>
          <p:nvPr/>
        </p:nvPicPr>
        <p:blipFill>
          <a:blip r:embed="rId2"/>
          <a:stretch/>
        </p:blipFill>
        <p:spPr>
          <a:xfrm>
            <a:off x="457200" y="1663560"/>
            <a:ext cx="5229360" cy="1449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2" descr="C:\Documents and Settings\user\바탕 화면\4.JPG"/>
          <p:cNvPicPr/>
          <p:nvPr/>
        </p:nvPicPr>
        <p:blipFill>
          <a:blip r:embed="rId3"/>
          <a:stretch/>
        </p:blipFill>
        <p:spPr>
          <a:xfrm>
            <a:off x="2335320" y="1663560"/>
            <a:ext cx="5200560" cy="1449360"/>
          </a:xfrm>
          <a:prstGeom prst="rect">
            <a:avLst/>
          </a:prstGeom>
          <a:ln w="0">
            <a:noFill/>
          </a:ln>
        </p:spPr>
      </p:pic>
      <p:sp>
        <p:nvSpPr>
          <p:cNvPr id="424" name="TextBox 6"/>
          <p:cNvSpPr/>
          <p:nvPr/>
        </p:nvSpPr>
        <p:spPr>
          <a:xfrm>
            <a:off x="457200" y="3421080"/>
            <a:ext cx="8229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붙일 위치를 깨끗이 닦아 쌍 커풀 라인 위치 잡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2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을 투명테이프에 반 정도 붙여 테이프를  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살짝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눌러줌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3. Y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자 스틱으로 쌍 커풀 테이프를 눌러 라인 형성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HY강B"/>
                <a:ea typeface="HY강B"/>
              </a:rPr>
              <a:t>하여 안정이 되게 함</a:t>
            </a:r>
            <a:r>
              <a:rPr b="0" lang="en-US" sz="28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177480" y="1187280"/>
            <a:ext cx="876132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클립으로 탈착 할수 있는 형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필요와 사용목적에 따라 클립을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1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핀을 이용한 인조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머리 치장을 위해 모발 염색을 해야하는 불편함과 모발손상을 없애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모발 어느 위치에도 간편하게 다양한 칼라의 머리카락을 위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개성 있게 표현할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6" name="제목 8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미용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이용 목적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종류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3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접착 성분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4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유해물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5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착용방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과정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6)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Lucida Sans Unicode"/>
              </a:rPr>
              <a:t>               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648320" y="1143000"/>
            <a:ext cx="403848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식품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푸드바인드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,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멜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     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라민파동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1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피해사례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HY강B"/>
                <a:ea typeface="HY강B"/>
              </a:rPr>
              <a:t>(2)</a:t>
            </a:r>
            <a:r>
              <a:rPr b="0" lang="ko-KR" sz="2800" spc="-1" strike="noStrike">
                <a:solidFill>
                  <a:srgbClr val="ffffff"/>
                </a:solidFill>
                <a:latin typeface="HY강B"/>
                <a:ea typeface="HY강B"/>
              </a:rPr>
              <a:t>해결방안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81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속눈썹연장세럼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자연성분인 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 주원료로 부작용없고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가 확실하며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주 정도 사용으로 확실하게 달라진 속눈썹을 느낄 수 있음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 u="sng">
                <a:solidFill>
                  <a:srgbClr val="000000"/>
                </a:solidFill>
                <a:uFillTx/>
                <a:latin typeface="HY강B"/>
                <a:ea typeface="HY강B"/>
              </a:rPr>
              <a:t>펩타이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미노산의 중합체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소수의 아미노산이 연결된 형태→ 펩티드많은 아미노산이 연결→단백질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피부가 쳐지는 경향이 있으므로 가능하면 사용을 자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매몰 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절개 법 시술로 비용은 들지만 효과는 아이참 보다 배로 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0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627120" y="2169720"/>
            <a:ext cx="8229600" cy="36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600" spc="-1" strike="noStrike">
                <a:solidFill>
                  <a:srgbClr val="000000"/>
                </a:solidFill>
                <a:latin typeface="Lucida Sans Unicode"/>
              </a:rPr>
              <a:t>                               </a:t>
            </a:r>
            <a:endParaRPr b="0" lang="en-US" sz="5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8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푸드바인드</a:t>
            </a:r>
            <a:r>
              <a:rPr b="0" lang="en-US" sz="54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5400" spc="-1" strike="noStrike">
                <a:solidFill>
                  <a:srgbClr val="000000"/>
                </a:solidFill>
                <a:latin typeface="HY강B"/>
                <a:ea typeface="HY강B"/>
              </a:rPr>
              <a:t>멜라민파동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32" name="제목 2" descr=""/>
          <p:cNvPicPr/>
          <p:nvPr/>
        </p:nvPicPr>
        <p:blipFill>
          <a:blip r:embed="rId1"/>
          <a:stretch/>
        </p:blipFill>
        <p:spPr>
          <a:xfrm>
            <a:off x="622440" y="2724120"/>
            <a:ext cx="82404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34" name="AutoShape 3"/>
          <p:cNvSpPr/>
          <p:nvPr/>
        </p:nvSpPr>
        <p:spPr>
          <a:xfrm>
            <a:off x="1143000" y="282564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5" name="AutoShape 5"/>
          <p:cNvSpPr/>
          <p:nvPr/>
        </p:nvSpPr>
        <p:spPr>
          <a:xfrm>
            <a:off x="990720" y="2825640"/>
            <a:ext cx="276516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36" name="foodbind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41334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4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계란흰자분말과감자전분등이 주원료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잘게 부숴진 고기를 결합시키는 용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고가의 갈비를 정상적인방법으로 위생적으로 조리할때 사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인체에는 무해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생갈비와 접착갈비 법적구분을 정확하게 제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집중단속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축산물가공처리 법과 시행규칙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농림부 고시 등 관계 법령을 수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2" name="AutoShape 3"/>
          <p:cNvSpPr/>
          <p:nvPr/>
        </p:nvSpPr>
        <p:spPr>
          <a:xfrm>
            <a:off x="1143000" y="2940120"/>
            <a:ext cx="2765520" cy="2073240"/>
          </a:xfrm>
          <a:prstGeom prst="roundRect">
            <a:avLst>
              <a:gd name="adj" fmla="val 6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800" rIns="82800" tIns="41400" bIns="41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3" name="AutoShape 5"/>
          <p:cNvSpPr/>
          <p:nvPr/>
        </p:nvSpPr>
        <p:spPr>
          <a:xfrm>
            <a:off x="1143000" y="2940120"/>
            <a:ext cx="276552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44" name="mel.avi" descr=""/>
          <p:cNvPicPr/>
          <p:nvPr/>
        </p:nvPicPr>
        <p:blipFill>
          <a:blip r:embed="rId2"/>
          <a:stretch/>
        </p:blipFill>
        <p:spPr>
          <a:xfrm>
            <a:off x="3048120" y="260028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39267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" dur="1" fill="hold"/>
                                        <p:tgtEl>
                                          <p:spTgt spid="4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4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Rectang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457200" y="1419120"/>
            <a:ext cx="8228160" cy="471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신장결석이나 신부전증 환자가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53,0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이 발생하였고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이 중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12,800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은 입원치료를 받고 있으며 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4</a:t>
            </a: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명의 유아가 사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멜라민은 우유에 첨가할 경우 단백질의 함유량을 실제보다 부풀릴 수 있기에 사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HY강B"/>
                <a:ea typeface="HY강B"/>
              </a:rPr>
              <a:t>중국산 식품에 대한 신뢰도 큰 타격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Rectangle 1" descr=""/>
          <p:cNvPicPr/>
          <p:nvPr/>
        </p:nvPicPr>
        <p:blipFill>
          <a:blip r:embed="rId1"/>
          <a:stretch/>
        </p:blipFill>
        <p:spPr>
          <a:xfrm>
            <a:off x="195120" y="285840"/>
            <a:ext cx="8498160" cy="109836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/>
          </p:nvPr>
        </p:nvSpPr>
        <p:spPr>
          <a:xfrm>
            <a:off x="457200" y="1604520"/>
            <a:ext cx="822816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해결방안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정부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위해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와 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품질 관리 요소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`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를 명확히 구분해 정책을 수립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집행 해야함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403200"/>
                <a:tab algn="l" pos="811080"/>
                <a:tab algn="l" pos="1219320"/>
                <a:tab algn="l" pos="1627200"/>
                <a:tab algn="l" pos="2033640"/>
                <a:tab algn="l" pos="2441520"/>
                <a:tab algn="l" pos="2849400"/>
                <a:tab algn="l" pos="3255840"/>
                <a:tab algn="l" pos="3664080"/>
                <a:tab algn="l" pos="4071960"/>
                <a:tab algn="l" pos="4478400"/>
                <a:tab algn="l" pos="4886280"/>
                <a:tab algn="l" pos="5294160"/>
                <a:tab algn="l" pos="5702400"/>
                <a:tab algn="l" pos="6108840"/>
                <a:tab algn="l" pos="6516720"/>
                <a:tab algn="l" pos="6924600"/>
                <a:tab algn="l" pos="7331040"/>
                <a:tab algn="l" pos="7738920"/>
                <a:tab algn="l" pos="814716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식품안전처와 같은 제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3</a:t>
            </a:r>
            <a:r>
              <a:rPr b="0" lang="en-US" sz="3600" spc="-1" strike="noStrike">
                <a:solidFill>
                  <a:srgbClr val="000000"/>
                </a:solidFill>
                <a:latin typeface="HY강B"/>
                <a:ea typeface="HY강B"/>
              </a:rPr>
              <a:t>의 독립기구 설립</a:t>
            </a:r>
            <a:endParaRPr b="0" lang="en-US" sz="36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제목 3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2700" spc="-1" strike="noStrike">
              <a:solidFill>
                <a:srgbClr val="464646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제목 4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Autofit/>
          </a:bodyPr>
          <a:p>
            <a:pPr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가발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인조속눈썹</a:t>
            </a:r>
            <a:r>
              <a:rPr b="0" lang="en-US" sz="4000" spc="-1" strike="noStrike">
                <a:solidFill>
                  <a:srgbClr val="464646"/>
                </a:solidFill>
                <a:latin typeface="HY강B"/>
                <a:ea typeface="HY강B"/>
              </a:rPr>
              <a:t>,</a:t>
            </a:r>
            <a:r>
              <a:rPr b="0" lang="ko-KR" sz="4000" spc="-1" strike="noStrike">
                <a:solidFill>
                  <a:srgbClr val="464646"/>
                </a:solidFill>
                <a:latin typeface="HY강B"/>
                <a:ea typeface="HY강B"/>
              </a:rPr>
              <a:t>아이참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6840" y="1143000"/>
            <a:ext cx="842796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분장용이나 장식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무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예용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례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·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법관용 등 특종 직업용 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속눈썹숱이적어 마스카라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효과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보지못하는사람위함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쌍커풀이 없거나 쌍커풀선이 약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사람들이 이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Rectang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1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탈모용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전체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부분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패션가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악세서리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연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마네킹용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코스프레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의료용가발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익스텐션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짧은머리를 긴머리로바꾸는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붙임머리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Rectangle 2" descr=""/>
          <p:cNvPicPr/>
          <p:nvPr/>
        </p:nvPicPr>
        <p:blipFill>
          <a:blip r:embed="rId1"/>
          <a:stretch/>
        </p:blipFill>
        <p:spPr>
          <a:xfrm>
            <a:off x="360360" y="268200"/>
            <a:ext cx="833292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 txBox="1"/>
          <p:nvPr/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2.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인조속눈썹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형태별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양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길이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색상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심는형태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눈썹의 숱 많이 표현 하고자       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하는부위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3.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아이참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굵고 짧은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            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긴 형</a:t>
            </a:r>
            <a:r>
              <a:rPr b="0" lang="en-US" sz="3200" spc="-1" strike="noStrike">
                <a:solidFill>
                  <a:srgbClr val="000000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HY강B"/>
                <a:ea typeface="HY강B"/>
              </a:rPr>
              <a:t>얇고 짧은 형</a:t>
            </a:r>
            <a:endParaRPr b="0" lang="en-US" sz="32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9" name="제목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Picture 4" descr="접착제"/>
          <p:cNvPicPr/>
          <p:nvPr/>
        </p:nvPicPr>
        <p:blipFill>
          <a:blip r:embed="rId1"/>
          <a:stretch/>
        </p:blipFill>
        <p:spPr>
          <a:xfrm>
            <a:off x="763560" y="1600200"/>
            <a:ext cx="3398760" cy="452592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162320" y="1600200"/>
            <a:ext cx="4694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1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가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: 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노테이프본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실리콘접착제로 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고정부착형가발에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사용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2-3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주이상의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514440" indent="-5144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강한접착력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2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내용 개체 틀 10" descr="5482855381.jpg"/>
          <p:cNvPicPr/>
          <p:nvPr/>
        </p:nvPicPr>
        <p:blipFill>
          <a:blip r:embed="rId1"/>
          <a:stretch/>
        </p:blipFill>
        <p:spPr>
          <a:xfrm>
            <a:off x="846000" y="2033640"/>
            <a:ext cx="3206880" cy="35622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 txBox="1"/>
          <p:nvPr/>
        </p:nvSpPr>
        <p:spPr>
          <a:xfrm>
            <a:off x="4340160" y="1600200"/>
            <a:ext cx="4346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2.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인조속눈썹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 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</a:t>
            </a:r>
            <a:r>
              <a:rPr b="0" lang="ko-KR" sz="3200" spc="-1" strike="noStrike" u="sng">
                <a:solidFill>
                  <a:srgbClr val="ffffff"/>
                </a:solidFill>
                <a:uFillTx/>
                <a:latin typeface="HY강B"/>
                <a:ea typeface="HY강B"/>
              </a:rPr>
              <a:t>글루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접착제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세트산비닐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i="1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수지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로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독성이없어 안전하며 마른후에도 씻어낼수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5" name="제목 6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648320" y="1582200"/>
            <a:ext cx="4038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3.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아이참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양면성 테이프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   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점착제가 발라져 있음</a:t>
            </a:r>
            <a:r>
              <a:rPr b="0" lang="en-US" sz="3200" spc="-1" strike="noStrike">
                <a:solidFill>
                  <a:srgbClr val="ffffff"/>
                </a:solidFill>
                <a:latin typeface="HY강B"/>
                <a:ea typeface="HY강B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HY강B"/>
                <a:ea typeface="HY강B"/>
              </a:rPr>
              <a:t>풀이나 고무풀 등</a:t>
            </a:r>
            <a:endParaRPr b="0" lang="en-US" sz="32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7" name="내용 개체 틀 4" descr="123.jpg"/>
          <p:cNvPicPr/>
          <p:nvPr/>
        </p:nvPicPr>
        <p:blipFill>
          <a:blip r:embed="rId1"/>
          <a:stretch/>
        </p:blipFill>
        <p:spPr>
          <a:xfrm>
            <a:off x="287280" y="2224080"/>
            <a:ext cx="4038480" cy="2735280"/>
          </a:xfrm>
          <a:prstGeom prst="rect">
            <a:avLst/>
          </a:prstGeom>
          <a:ln w="0">
            <a:noFill/>
          </a:ln>
        </p:spPr>
      </p:pic>
      <p:pic>
        <p:nvPicPr>
          <p:cNvPr id="398" name="제목 1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2:28:52Z</dcterms:created>
  <dc:creator>sec</dc:creator>
  <dc:description/>
  <dc:language>en-US</dc:language>
  <cp:lastModifiedBy>sec</cp:lastModifiedBy>
  <dcterms:modified xsi:type="dcterms:W3CDTF">2009-12-02T04:33:16Z</dcterms:modified>
  <cp:revision>29</cp:revision>
  <dc:subject/>
  <dc:title>등잔밑이 어둡다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0</vt:r8>
  </property>
</Properties>
</file>